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AD2-3103-4B45-8DC9-C03C4DD0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288-D1D0-4847-B7F9-2491D53C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BA8-E0DC-4A07-BC1F-D3844452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879-468C-4EDA-8B22-6B72800F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653-76B1-4BEA-B56B-EF48C948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1D5-B065-4BA5-AED3-13A1427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E26-F5E3-4B83-830B-5524B63D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BCD-4863-4D3E-85A9-A26F9D01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FC4-5FB0-4A96-9E30-C4DAC34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9D1-21FD-434E-B6D3-F595953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983-1FB0-4A5D-8FF1-F0F151F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522-EE2C-46FF-AD60-2B735D5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457-5220-45C4-9E20-362B1CC91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440" y="1828800"/>
            <a:ext cx="602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umber Need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Treat  (N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553080" cy="7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655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4711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483000"/>
            <a:ext cx="6477120" cy="154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7116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55344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720" y="4191120"/>
            <a:ext cx="2286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267080"/>
            <a:ext cx="99072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88620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55344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6629400" cy="167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34320" y="51055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530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5530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647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7:05Z</dcterms:modified>
  <cp:revision>207</cp:revision>
  <dc:subject/>
  <dc:title>Slide 1</dc:title>
</cp:coreProperties>
</file>